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087-3F0B-4172-AF0D-910FA389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D9B-42B4-4F0C-9257-A301E243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138-4FE2-40B0-BB5B-4B688A9F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389-E7AA-4D61-B5F4-DDFED3B0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68A-FE3E-47D4-AED8-A3DAFEA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DE0-64AC-4CB4-B39E-8B4E4C4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73C-3360-4AC7-A3C1-4172346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75D-B24E-42F0-9D50-3077D8D0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753-E283-45BF-835F-DB2868C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970-F42F-4779-97F3-251E113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6BF-6AC9-481A-A791-5A34E67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4FF-7ABD-4C43-8EE7-B89379F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38B-3627-4107-A2C0-613F6E36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8 Príď, Tešiteľ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Tešiteľ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siln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i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modlit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am viery v nás rozn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pravdu vždy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tme cestu o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v lásk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edieš nás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arí sa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radosť je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mieru máš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bytkov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usmerňuj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domov je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asť nadzemsk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09:37Z</dcterms:modified>
  <cp:revision>13</cp:revision>
  <dc:subject/>
  <dc:title>Je veľký náš Pán, on slávy je Kráľ Nech do všetkých strán  spev vrúcnych znie chvál.</dc:title>
</cp:coreProperties>
</file>